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50D-31E4-4BDF-9BA7-38F83B32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001-5472-44E5-B549-DD175F38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48D2A-70C2-46E5-8783-73923DCF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B80E4-D26A-4863-BDA4-E1116FE5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A64B8-F3F1-4902-A514-20E490C2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88B6B-A4DB-4D4E-8CD6-EA4640C3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245B8-D2B7-4B4A-A072-084A5F4E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A9809-5E29-4D82-88D4-C3EC0D68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90A68-6E16-4D69-840D-FF9624E5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3121F-BCF7-44DA-BB2E-D38FCA60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2AAEA-5201-4429-8F06-6ABB4089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3CEB9-FD9D-419D-AF96-F9B3B00F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F9E-A66D-4D3C-8AB8-FCD7901F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A49E0-365E-4261-9E29-6D6BBB1D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F5095-663A-456A-A313-0E3B246F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309DA-5832-4AF5-BE6B-F31DE870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DA7CF-F3EB-4F44-A03C-04F3B112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C313D-9625-4051-8720-A32D6ED0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58004-822E-4522-BE03-3593CDB0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009D2-B888-4341-9ED6-58354F73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2102F-6A40-473F-8AC6-1448DB31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15428-934B-49B9-A46B-0462D891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E94F9-758F-4F75-8A64-F46F85C8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A81-7540-4AB8-9EBA-F90B9E6F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63375-7E2E-40C6-8C88-E294209E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BCCBA-36FC-402F-A2F3-3EA3B024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59809-7C4D-493B-81B5-B35CFBFF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79A5F-AE73-4304-95D8-CBFDCDA1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9FF4D-1325-4B59-BDFB-96383AF9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AFA70-EAB3-4500-88C2-1FD9D3F7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68B66-5E89-451B-855C-CEE2DB80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D9C11-4426-461F-952D-A3CBBFC1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CAB8F-DCF6-4BD9-B1FC-AE7434E8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7CA5A-3D71-4B53-B528-8334D005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6A62-07E4-4136-82BA-F5908B57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87E72-571E-474B-9E94-2E6207C5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EE20F-9E00-4ED0-AD9C-244E9789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E0C4C-CBAE-4D14-8065-60247DF2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DBA2D-439A-4338-BC99-12BB824A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39B13-EEB9-4FFA-B5C0-A69E4111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D4888-51DC-4323-89DE-48B4A2F8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C51B0-050D-4A13-995C-95E2BC21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CCB12-2574-40F7-8ACE-3A18D107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2AB9D-4F3B-4360-BF50-2996B6B2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6AA66-1BA4-4EF1-A391-AFB84DBA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25F2-5F5B-4F57-9135-85D2EB38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9866E-ECD4-4443-A451-C4D91192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257E5-1FBB-46ED-BB31-D51A1A68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F7B30-4533-4307-926C-6BD3FD0D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6BA79-7436-4B7A-AC28-5DD58D2D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6C446-52C8-4D52-9BE8-52B8008F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44996-41D7-4E73-9B94-C18038AB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776ED-4B66-4BD5-B6B8-22DCA583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A9FE2-B30B-4008-AA9F-C12C3B15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C5379-2C62-4B6E-A5D3-E84CCD65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3F474-7573-4610-BAEC-D0518E0F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372C-75B1-4DC1-A304-42FBD738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2E17D-7459-466E-9816-6962C7F8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EA52C-0C9F-494E-BB18-BB00A473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7C8C9-19BB-4906-A766-AA0DC164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D5D8C-6BDB-4809-823B-BACD4CFA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7108E-53D8-4D03-838E-6AC73670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223E8-587D-4E4B-BD5B-7D70D814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9A873-1BD1-47FF-B0EB-1A707991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2DB0A-5326-405B-8EEF-699632ED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7C885-D613-4324-B166-C566D2C0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F7C02-B826-438E-BB4B-C98E3AB3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6D7A-B45F-4829-B4FA-881EF352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67208-5BBD-4CFD-8E17-49B563BE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18510-DFA0-4882-9625-D3A61DE5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4AE94E-BAC9-4C7B-93EB-CF4AFC81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C71E6-1E7B-41F9-9D86-A84E9010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967BC-83E5-4DC7-B306-4C0D4C61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76324-F16F-4916-A050-60C0C0A2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9F1EFC-B213-409A-B251-2D298A71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C88F5-C013-4B7F-BFC3-93998A2C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4AA846-2398-4410-866E-CC50FD53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E0E117-16B4-4FFE-ABA6-8A946FEC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A679-B648-4CA6-A686-8979B1BA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608C7-CED0-43DE-8A37-EE11FF39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18DD22-356F-4827-B58B-721FEAD8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4BA27C-B03A-4178-B389-BA334326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24100-C298-4FB5-801A-53B9D747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6188D-4727-4EE9-8A65-C31D1272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666DFD-81E9-4B1D-9B83-923E915F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D48A5B-E884-45B2-B42B-9E2DF691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9F6BDE-5923-44ED-92B1-29FF01D5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BE371-6955-483B-836F-C1A43AEA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251EC-C695-4EA3-970F-3FEC46E2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03C0-B1BB-4B6F-AAF2-8F59509A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57F50F-B43A-4F37-AE85-D5E1B62A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754542-13F6-417F-864F-66FAA1DF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8D4EF7-793B-43AB-98BF-7BEF9E35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9DFECF-3896-4547-AD5E-47382863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C40645-4A2F-48F3-9388-6305D328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67A758-3AC7-467A-8CD7-C42AE3AA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410B36-A55E-4AE3-8BD4-9AFE7D87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A561C5-3AAB-428F-A966-2156ECD6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1413B4-D6C1-4865-9777-6F4FE505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D1C72-8826-4145-AA6D-A38407D6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F8BE-298F-4FD3-BCDF-DC5B5023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E0987D-2117-4CC5-9A2B-E1E0B887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8DE8F8-1A1B-482F-9361-306608AB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922B86-FC4D-4AB7-BC7D-F8A39ECD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EDB563-C0E3-49B5-B106-9CF89DB9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67D732-003F-40CD-9EB4-6765799F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3897A9-B523-40D0-8B08-0C0CF297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F7FF3D-3A85-4396-871E-96CFA2AE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D42B48-09E6-4CAD-BAC9-F11997C1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44DC65-EAB8-415B-94FA-C811961B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0CA1B-CF8A-49EA-9F6A-EAB38E78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4AE-CC54-442F-888D-7FBEC8A8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EF36-CF5D-4133-B1A1-1B89F766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830BE7-B213-4F9C-B4BA-6532C595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AD9E5-D97F-4165-B5BA-402239CA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2EA899-A648-4011-9FF5-6B1505A4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73FCDA-215D-40F5-831E-A8C67405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C34E53-D1CC-44FD-99B0-5C4832B1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4514DF-0CD4-4F55-AA56-0FBEE749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ADAA11-D77C-4EFC-8E19-75746753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19A37D-A66E-4067-9F7B-44825C17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D86917-8444-4631-8D73-450FFF05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A3AFAAE-07F7-4805-B3B7-C708B78A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0A34-F472-465A-A5E8-71AEB8A6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3D00875-006F-48B5-AE44-3981A445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02002D3-6DFD-40A7-8A87-F1C305B7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CECEA2B-E656-43ED-8BDB-EB82824E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DD8E52D-9035-4477-87C1-1814CEFA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C3AE3F-6066-497A-9000-304D3E06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8492B4C-3E3F-4B26-B9AC-53298712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D3BC255-8E42-4255-9149-B44B1373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9E9D-3FA3-4DE0-AEB9-BBC9D368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3BD2-B07E-49C4-8B63-EDAB875F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F11E-0E02-43A6-AC2E-EF457CF7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E88A-261C-4F0F-A658-40655D6C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A50B7-23D8-4888-B96D-A7EE1E2F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92BF6-CBCA-468B-8465-F1BB1EFF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4BC3A-5E4A-4AFE-931A-4EBC4DB3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169CC-D3AA-4482-BDE3-051ABDFD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8BD-393C-454B-83E7-3CA116E5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8E412-8B88-4A56-AE67-707F3647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FE7B-5E84-40E8-B622-ED4BD186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D9E0A-2B98-4C45-8FA2-F2C5E87F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72F86-93ED-4DA9-B736-28360DA1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87867-05DA-45A9-8985-8AA81CA7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AF37-EB8C-43A6-9DB6-09A295CA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A9BC1-861A-411C-81F8-12C69736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995E4-F533-47AC-A6A1-A073E702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7E8A6-1756-4D95-9832-17642D87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CC9DF-0152-4867-8258-57A79431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710-CCEB-4BBB-AD99-69A69025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E1345-687C-44E9-B7CD-232D28CE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5C117-278F-434C-8E0F-7FA24D43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A052F-CF60-4E0F-9B51-3C6D21F9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C701F-432A-4C73-8132-CF6829E8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5EB34-85B2-45D0-8C20-EE40A718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89757-8B6C-4EB2-8BAA-E0C240D6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7D822-1672-4EB7-AEA0-00914AE7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B7CC0-21A0-467B-8C15-17C7608B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CD52C-BF8A-473C-8499-F79FFA18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2EB67-DD16-4911-B21F-6B7C8145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7F9-B755-4F4C-AB11-F2D037B1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E0BAC-1B51-4E5D-8FB8-E4A8DA53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E2A49-BF8F-4BC6-82D6-E08990B1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199F7-498D-46E4-84A3-774799F9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13522-5835-4B8B-85D4-373D6183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52789-8595-45AE-9ADC-C599D2A8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4656E-B136-458A-96ED-9CA4E820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D3179-7771-4B95-9182-8DDCD7B2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D6D8E-80B5-4580-B2D6-1267B468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E2DF4-929B-4C32-AFBB-1C7F33B8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3225B-B17A-44DE-AFE9-8D53BD8D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4F6-403D-44CF-B5D6-C45A95E3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E0E7F-4267-4AC9-9703-048BB85E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11AD9-D223-4EE5-B7AE-9841789E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A2125-68E5-4D2C-B1A6-800508C8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0C04E-61FF-4DD8-945A-6FE51B08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028AF-28FA-443D-B912-D2E387D8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F8970-A142-49BD-B9BA-5F3C6B75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0858C-E131-4649-92D1-8FE24CF9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3DE2D-9B1C-44FD-9877-8CD6377A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0E710-CD85-48AB-A9A0-ECF1C481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92945-1EB8-4C02-9078-EAD04A11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10C-FC41-4CA4-9808-DB139080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A9C74-8B52-47CF-A7F8-62CD3A0F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8547B-8328-4447-9198-B86A1F0A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56B3B-F369-4811-9EE2-89692D4F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EDCE1-69EA-48B6-85E4-E59B8AEE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7A5C8-09B1-41B2-BE21-E306E575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76EB0-94E7-4850-87DC-314201BC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0F921-4BE8-4D6B-AC88-6918713F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785AA-7E78-4DF3-A7F4-13ABB331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5D7A8-FAAE-48D2-A2ED-34309BB0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43EBD-B616-4625-9509-FA5B7587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F18-82C0-4FE5-A6E4-0F829E47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CE630-A2D7-4724-AA2C-731DE81A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05456-F906-4B11-A104-F1B08C6A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B2713-386A-4238-A2D5-98E313C5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22860-6D85-4153-B4B9-699DACEB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56CB0-D5F9-4A35-AC49-B067F94E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B4AB0-EE0D-4D67-95D6-4BC5CC7F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795C4-77CC-4B7C-94B5-FA302652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19473-5A39-468B-B8EF-1BFFF46E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4702C-AFFC-483E-A2FE-05ABE67C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EB055-FC65-433E-9CE1-3A39DA08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867-D3E4-40AE-B0CD-04FB8C1B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559BB-571C-4C75-90BD-1BD9CB18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53B20-43C8-43C5-A4A3-80AE4655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B3993-AF83-4064-AFB8-A48BC203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A67EE-CE8F-447A-8453-74C05953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BAA26-8D44-4CF8-B101-29D6D6AA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06713-C255-41DE-AF10-681514D2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AD092-DE6E-4351-B4A6-FD1FFFB0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CD904-3EF1-44C5-913B-3976BF37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8FA29-A8B2-43E1-8CCE-9FB5C034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CB188-DC33-47D2-8791-6D98D243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518F-2009-405C-9103-5A202149D52C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310F-B1DA-4203-943C-90DD6F7CF313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AEC9-18B2-4F9A-932A-96C9FCF57F11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6ACD-06B4-4526-B51C-D51DD7C83583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1804-9DD0-4BDF-BCF2-A79C47F05E18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ED47-24A0-4C8D-BF56-C86253DB3053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806B-9CC3-4B51-99B4-7B887E2F5178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BE2E-9482-4BD9-B14B-9A9AD9FC5CBF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B320-3F81-4366-9EC2-827B64330C9E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ftr" idx="5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sldNum" idx="5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8FAD-4BC4-4C61-A467-42CEBF4B25C7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dt" idx="5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BC42-77EC-4F44-A446-D113208852D1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6F72-3110-46B0-A2BF-F44D284FD892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0C90-C0CD-4FFC-A62B-1C9240D2CA65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CB90-3E7B-460A-BE4C-67BB5AEAD759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C764-C502-436C-A1DC-8236629181BF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5F67-C8B6-4CF8-B009-79D2FD49868B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F717-740F-43E3-8D3B-E8B9C266C044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577B-C525-4D94-B0D9-10DB522768CA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895120" y="1676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Rectangle 5"/>
          <p:cNvSpPr/>
          <p:nvPr/>
        </p:nvSpPr>
        <p:spPr>
          <a:xfrm>
            <a:off x="609480" y="4419720"/>
            <a:ext cx="8534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ДЕЯТЕЛЬНОС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ЗАЦИ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ОКАЗАНИ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МОЩИ 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МБУЛАТОРНЫ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УСЛОВ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5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5" name=""/>
          <p:cNvGraphicFramePr/>
          <p:nvPr/>
        </p:nvGraphicFramePr>
        <p:xfrm>
          <a:off x="152280" y="838080"/>
          <a:ext cx="8763120" cy="56152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697"/>
          <p:cNvSpPr/>
          <p:nvPr/>
        </p:nvSpPr>
        <p:spPr>
          <a:xfrm>
            <a:off x="4419720" y="2057400"/>
            <a:ext cx="4495680" cy="16891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3 – графа 4 = городские жители все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5 – графа 6 = городские жители де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!!!Всего не должно быть больше чем дети по всем строк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626"/>
          <p:cNvSpPr/>
          <p:nvPr/>
        </p:nvSpPr>
        <p:spPr>
          <a:xfrm>
            <a:off x="7139520" y="403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2 «в неотложной форме»: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сещение по неотложной помощи – оказание неотложной медицинской помощи лицам, обратившимся с признаками неотложных состояний (при внезапных острых заболеваниях, состояниях, обострении хронических заболеваний, не опасных для жизни и не требующих экстренной медицинской помощи) в отделение (кабинет) неотложной медицинской помощи,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3 «активных»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сещение на дому считается активным, если оно проводится по инициативе врача. Как правило, активно наблюдаются пациенты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30–60% от общего числа посещений на дому, что зависит от таких факторов, как соотношение первичных и повторных посещений пациента; динамика и сезонность заболеваний; возможность госпитализации и др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диспансерное наблюдение представляет собой динамическое наблюдение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предупреждения осложнений, обострений заболеваний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1" name="Rectangle 703"/>
          <p:cNvSpPr/>
          <p:nvPr/>
        </p:nvSpPr>
        <p:spPr>
          <a:xfrm>
            <a:off x="1676520" y="3276720"/>
            <a:ext cx="6324480" cy="25146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рограмме государственных гаранти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посещение в отчетном году по поводу диспансерного наблюдения считается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тчетной форме №30 учитываем по установленному порядку: Все посещения по поводу диспансерного наблюдения указываются по поводу заболе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 txBox="1"/>
          <p:nvPr/>
        </p:nvSpPr>
        <p:spPr>
          <a:xfrm>
            <a:off x="304560" y="7621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6 «медицинский осмотр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порядке целевого профилактического осмотр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Целевые профилактические медицинские осмотры — медицинские осмотры (обследования), предпринятые с целью выявления определенных заболеваний на ранней стадии (новообразования, туберкулез, глаукома, сахарный диабет, сердечно-сосудистые заболевания и др.), охватывают различные группы организованного и неорганизованного населен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</a:rPr>
              <a:t>Включаются предварительные, периодические, медицинские осмотры спортсменов, профилактические осмотры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7 «диспансеризация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ать количество посещений, выполненных в ходе диспансеризации определенных групп взрослого населения и диспансеризация детей-сирот (форма №131 и №030/Д/с/о- 13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ведения строки 6 в строку 7 не включают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8 «комплексный медицинский осмотр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центрах здоровья и внеплановые медицинские осмотры (осмотры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</a:rPr>
              <a:t>участников ВОВ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не плановой диспансеризации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9 «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из них в центрах здоровья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центрах здоровья (в соответствии с формой №6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0 «паллиативная помощь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рамках оказания паллиативной помощи в амбулаторных условиях. К ним относятся посещения с кодом по МКБ-10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Z51.5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«Паллиативная помощь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трока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«паллиативная помощь»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заполняется, если в организации организован кабинет (отделение) по оказанию паллиативной помощ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 данную строку включаются посещения врача кабинета противоболевой терап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1 «патронаж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рачом на дому для проведения профилактических, оздоровительных и санитарно-просветительных мероприят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атронаж — форма работы медицинской организации, основными целями которой являются проведение на дому оздоровительных и профилактических мероприятий, внедрение правил личной гигиены и улучшение санитарно-гигиенических условий в быту. Особенно широко используется в учреждениях охраны материнства и детства, некоторых диспансерах. Осуществляется врачами: участковыми (патронажными), диспансеров. Особой формой патронажа является уход за одинокими и престарелыми больны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2 «прочие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рачом с профилактическими целями, не указанными выше. Например, посещения контактных пациентов, обследования социальных условий проживания семьи, «подворовые» обходы в сельской местности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ка 15 «врачебные бригад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Организовывается в зависимости от конкретных условий оказания первичной медико-санитарной помощи населению в целях обеспечения ее доступности могут формироваться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постоянно действующие медицинские бригады, 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состоящие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из врача-терапевта участкового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фельдшеров, акушеров и медицинских сестер, с распределением между ними функциональных обязанностей по компетенции, исходя из установленных штатных нормативов, предназначенных для расчета количества должностей, предусмотренных для выполнения медицинской организацией возложенных на нее функц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ка 16 «мобильные медицинские бригады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Мобильная медицинская бригада организуется в структуре медицинской организации (ее структурного подразделения), оказывающей первичную медико-санитарную помощь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для оказания первичной медико-санитарной помощью населения, в том числе жителей населенных пунктов с преимущественным проживанием лиц старше трудоспособного возраста либо расположенных на значительном удалении от медицинской организации и (или) имеющих плохую транспортную доступность с учетом климато-географических условий.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Состав мобильной медицинской бригады формируется руководителем медицинской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 организации (ее структурного подразделения) из числа врачей и медицинских работников со средним медицинским образованием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исходя из цели ее формирования и возложенных задач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295280" y="37620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Таблица 2106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380880" y="800280"/>
          <a:ext cx="8382240" cy="140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64044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по поводу заболевани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1 __, из них: сельских жителей  2 __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стр. 1) 3 _____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стр.3) 4__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174"/>
          <p:cNvSpPr/>
          <p:nvPr/>
        </p:nvSpPr>
        <p:spPr>
          <a:xfrm>
            <a:off x="235080" y="2190600"/>
            <a:ext cx="8686800" cy="279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щение включает в себя одно или несколько посещений пациента, в результате которых цель обращения достигнут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зависимости от цели обращения подразделяются 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обращения по поводу заболеваний, травм, отравлений и некоторых друг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ледствий воздействия внешних причин (коды A00 - T98 МКБ-1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обращения с профилактической целью (коды Z00 - Z99 МКБ-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, указанные в таблице 2106, должны быть меньше, чем данные указанные в таблице 2100 по строке 1 в соответствующих граф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ратность посещений в среднем по медицинским организациям составляет – на одно обращение 3-3,5 посещения (кроме специализированных ЛПУ, например: психиатрическая, фтизиопульмонологическая больницы и т.п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Овал 5"/>
          <p:cNvSpPr/>
          <p:nvPr/>
        </p:nvSpPr>
        <p:spPr>
          <a:xfrm>
            <a:off x="235080" y="5156280"/>
            <a:ext cx="8391240" cy="109224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bject 36"/>
          <p:cNvSpPr/>
          <p:nvPr/>
        </p:nvSpPr>
        <p:spPr>
          <a:xfrm>
            <a:off x="685800" y="5410080"/>
            <a:ext cx="225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 </a:t>
            </a:r>
            <a:r>
              <a:rPr b="1" lang="ru-RU" sz="21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bject 39"/>
          <p:cNvSpPr/>
          <p:nvPr/>
        </p:nvSpPr>
        <p:spPr>
          <a:xfrm>
            <a:off x="3124080" y="548640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bject 37"/>
          <p:cNvSpPr/>
          <p:nvPr/>
        </p:nvSpPr>
        <p:spPr>
          <a:xfrm>
            <a:off x="3352680" y="5410080"/>
            <a:ext cx="108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bject 32"/>
          <p:cNvSpPr/>
          <p:nvPr/>
        </p:nvSpPr>
        <p:spPr>
          <a:xfrm>
            <a:off x="4495680" y="5562720"/>
            <a:ext cx="106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object 41"/>
          <p:cNvSpPr/>
          <p:nvPr/>
        </p:nvSpPr>
        <p:spPr>
          <a:xfrm>
            <a:off x="5181480" y="5410080"/>
            <a:ext cx="576360" cy="432000"/>
          </a:xfrm>
          <a:custGeom>
            <a:avLst/>
            <a:gdLst>
              <a:gd name="textAreaLeft" fmla="*/ 0 w 576360"/>
              <a:gd name="textAreaRight" fmla="*/ 576720 w 576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object 38"/>
          <p:cNvSpPr/>
          <p:nvPr/>
        </p:nvSpPr>
        <p:spPr>
          <a:xfrm>
            <a:off x="6095880" y="5410080"/>
            <a:ext cx="2035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БРАЩЕНИЯ ДОСТИГНУ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700.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Работа стоматологического кабинет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152280" y="1143000"/>
          <a:ext cx="8763120" cy="4092480"/>
        </p:xfrm>
        <a:graphic>
          <a:graphicData uri="http://schemas.openxmlformats.org/drawingml/2006/table">
            <a:tbl>
              <a:tblPr/>
              <a:tblGrid>
                <a:gridCol w="3810240"/>
                <a:gridCol w="609480"/>
                <a:gridCol w="1008000"/>
                <a:gridCol w="1241640"/>
                <a:gridCol w="2093760"/>
              </a:tblGrid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зубных врачей и  гигиенистов стоматологиче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х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 ц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353"/>
          <p:cNvSpPr/>
          <p:nvPr/>
        </p:nvSpPr>
        <p:spPr>
          <a:xfrm>
            <a:off x="190440" y="6167520"/>
            <a:ext cx="8686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355"/>
          <p:cNvSpPr/>
          <p:nvPr/>
        </p:nvSpPr>
        <p:spPr>
          <a:xfrm>
            <a:off x="4572000" y="2708280"/>
            <a:ext cx="4419720" cy="17524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таблицу включаются и сведения о деятельности гигиенистов стоматологических и зубных врачей, в том числе зубных врачей здравпунктов, стоматологических кабинетов учебных заведений и предприятий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если они состоят в штате медицинской организ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360"/>
          <p:cNvSpPr/>
          <p:nvPr/>
        </p:nvSpPr>
        <p:spPr>
          <a:xfrm>
            <a:off x="4600440" y="5486400"/>
            <a:ext cx="4391280" cy="53352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должна быть равна сумме строк 2+3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360"/>
          <p:cNvSpPr/>
          <p:nvPr/>
        </p:nvSpPr>
        <p:spPr>
          <a:xfrm>
            <a:off x="4600440" y="4548240"/>
            <a:ext cx="4419720" cy="8096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еятельность гигиенистов стоматологических указываетс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Таблица 2700 (продолжение)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4" name=""/>
          <p:cNvGraphicFramePr/>
          <p:nvPr/>
        </p:nvGraphicFramePr>
        <p:xfrm>
          <a:off x="152280" y="838080"/>
          <a:ext cx="8763120" cy="4000680"/>
        </p:xfrm>
        <a:graphic>
          <a:graphicData uri="http://schemas.openxmlformats.org/drawingml/2006/table">
            <a:tbl>
              <a:tblPr/>
              <a:tblGrid>
                <a:gridCol w="1133640"/>
                <a:gridCol w="460440"/>
                <a:gridCol w="608040"/>
                <a:gridCol w="560160"/>
                <a:gridCol w="789120"/>
                <a:gridCol w="623880"/>
                <a:gridCol w="625320"/>
                <a:gridCol w="608040"/>
                <a:gridCol w="790560"/>
                <a:gridCol w="608040"/>
                <a:gridCol w="574920"/>
                <a:gridCol w="591840"/>
                <a:gridCol w="789120"/>
              </a:tblGrid>
              <a:tr h="37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1520"/>
          <p:cNvSpPr/>
          <p:nvPr/>
        </p:nvSpPr>
        <p:spPr>
          <a:xfrm>
            <a:off x="152280" y="5181480"/>
            <a:ext cx="8763120" cy="13147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ах указы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 тысячах единиц с одним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1521"/>
          <p:cNvSpPr/>
          <p:nvPr/>
        </p:nvSpPr>
        <p:spPr>
          <a:xfrm>
            <a:off x="1828800" y="3124080"/>
            <a:ext cx="7086600" cy="533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1524"/>
          <p:cNvSpPr/>
          <p:nvPr/>
        </p:nvSpPr>
        <p:spPr>
          <a:xfrm>
            <a:off x="1752480" y="4302000"/>
            <a:ext cx="7010640" cy="533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ъем выполненных работ гигиенистами стоматологическим в УЕТах (графа 16) указы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710.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Работа врачей-стоматологов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152280" y="1143000"/>
          <a:ext cx="8534520" cy="3833640"/>
        </p:xfrm>
        <a:graphic>
          <a:graphicData uri="http://schemas.openxmlformats.org/drawingml/2006/table">
            <a:tbl>
              <a:tblPr/>
              <a:tblGrid>
                <a:gridCol w="3408480"/>
                <a:gridCol w="655560"/>
                <a:gridCol w="930240"/>
                <a:gridCol w="1101960"/>
                <a:gridCol w="672840"/>
                <a:gridCol w="874800"/>
                <a:gridCol w="890640"/>
              </a:tblGrid>
              <a:tr h="73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из т. 2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дети до 1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70"/>
          <p:cNvSpPr/>
          <p:nvPr/>
        </p:nvSpPr>
        <p:spPr>
          <a:xfrm>
            <a:off x="2286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3"/>
          <p:cNvSpPr/>
          <p:nvPr/>
        </p:nvSpPr>
        <p:spPr>
          <a:xfrm>
            <a:off x="4114800" y="3048120"/>
            <a:ext cx="4648320" cy="8380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по графе 3 должна быть равна сумме посещений, указанных в таблице 2100 по сумме строк 86+87+89+90 и сумме граф 3+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85"/>
          <p:cNvSpPr/>
          <p:nvPr/>
        </p:nvSpPr>
        <p:spPr>
          <a:xfrm>
            <a:off x="4114800" y="5105520"/>
            <a:ext cx="4648320" cy="8380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6 по графе 3 должна быть равна сумме посещений, указанных в таблице 2100 по сумме строк 86+87+89+90 и сумме граф 4+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586"/>
          <p:cNvSpPr/>
          <p:nvPr/>
        </p:nvSpPr>
        <p:spPr>
          <a:xfrm>
            <a:off x="4114800" y="3962520"/>
            <a:ext cx="4648320" cy="10666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умма строк 4+5 по графе 3 должна быть равна сумме посещений, указанных в таблице 2100 по сумме строк 86+87+89+90 и сумме граф 5+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Посе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орма № 025/у),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ключающей жалобы, анамнез, объективные данные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: основного, фонового, конкурирующего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и сопутствующих заболеваний, травм, отравлений с кодами их по МКБ-10, группу здоровья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, обследование, а также результаты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обследования и  динамического наблюден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повод визита пациента в поликлиник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может состоять из одного или нескольких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895480" y="1676160"/>
            <a:ext cx="5943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ажаемые коллеги, необходимо внимательно проработать контроли,  в программе «Медстат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76320" y="1066680"/>
          <a:ext cx="8839080" cy="573264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1694"/>
          <p:cNvSpPr/>
          <p:nvPr/>
        </p:nvSpPr>
        <p:spPr>
          <a:xfrm>
            <a:off x="1924200" y="3343320"/>
            <a:ext cx="7010280" cy="4824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65 «приемного отделения» включены посещения приемного отделения к врачам различных специально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697"/>
          <p:cNvSpPr/>
          <p:nvPr/>
        </p:nvSpPr>
        <p:spPr>
          <a:xfrm>
            <a:off x="736344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1694"/>
          <p:cNvSpPr/>
          <p:nvPr/>
        </p:nvSpPr>
        <p:spPr>
          <a:xfrm>
            <a:off x="1924200" y="2765520"/>
            <a:ext cx="7010280" cy="50148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60 «по паллиативной медицинской помощи» включаются посещени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1698"/>
          <p:cNvSpPr/>
          <p:nvPr/>
        </p:nvSpPr>
        <p:spPr>
          <a:xfrm>
            <a:off x="1914480" y="3902040"/>
            <a:ext cx="7010280" cy="1298520"/>
          </a:xfrm>
          <a:prstGeom prst="rect">
            <a:avLst/>
          </a:prstGeom>
          <a:solidFill>
            <a:srgbClr val="839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3 вносятся посещения врачей-специалистов, оказывающих помощь в отделении (кабинете) неотложной медицинской помощи (при наличии его в структуре поликлиники медицинской организации), а также при оказании неотложной медицинской помощи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1698"/>
          <p:cNvSpPr/>
          <p:nvPr/>
        </p:nvSpPr>
        <p:spPr>
          <a:xfrm>
            <a:off x="1924200" y="5251320"/>
            <a:ext cx="7010280" cy="14925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4 вносятся посещения врачей-специалистов, оказывающих паллиативную медицинскую помощь в отделении (кабинете) паллиативной медицинской помощи (при наличии его в структуре поликлиники медицинской организации), а также при оказании паллиативной медицинской помощи патронажными службами на дому. Посещения указываютс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1698"/>
          <p:cNvSpPr/>
          <p:nvPr/>
        </p:nvSpPr>
        <p:spPr>
          <a:xfrm>
            <a:off x="504720" y="752400"/>
            <a:ext cx="8382240" cy="17622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 строке 123 - В соответствии с приказом МЗ РФ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15 мая 2012 г. № 543н «Положение об организации оказания первичной медико-санитарной помощи взрослому населению» и приложением №5 «Правила организации деятельности отделения (кабинета) неотложной медицинской помощи» - оказание неотложной медицинской помощи лицам, обратившимся с признаками неотложных состояний, может осуществляться в амбулаторных условиях или на дому при вызове медицинского работни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1698"/>
          <p:cNvSpPr/>
          <p:nvPr/>
        </p:nvSpPr>
        <p:spPr>
          <a:xfrm>
            <a:off x="533520" y="2619360"/>
            <a:ext cx="8381880" cy="40957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строке 124 - В соответствии с приказом МЗ РФ от 14.04.2015 №187н «Об утверждении Порядка оказания паллиативной медицинской помощи взрослому населению» и в соответствии с приложениями 1-6, 10-12 к настоящему Порядку - паллиативная медицинская помощь в амбулаторных условиях оказывается в кабинетах паллиативной медицинской помощи и выездными патронажными службами паллиативной медицинской помощи, созданными в медицинских организациях (в том числе в хосписах) на основе взаимодействия врачей-терапевтов, врачей-терапевтов участковых, врачей общей практики (семейных врачей), врачей по паллиативной медицинской помощи, иных врачей-специалистов и медицинских работник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риказом МЗ РФ от 14.04.2015 №193н «Об утверждении Порядка оказания паллиативной медицинской помощи детям» оказание паллиативной медицинской помощи детям осуществляется: врачами-педиатрами участковыми, врачами общей практики (семейными врачами), врачами-педиатрами, врачами по паллиативной медицинской помощи, прошедшими обучение по дополнительным профессиональным программам повышения квалификации) по вопросам оказания паллиативной медицинской помощи детя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697"/>
          <p:cNvSpPr/>
          <p:nvPr/>
        </p:nvSpPr>
        <p:spPr>
          <a:xfrm>
            <a:off x="7236000" y="285840"/>
            <a:ext cx="1677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дол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304920" y="1066680"/>
          <a:ext cx="8610480" cy="5456520"/>
        </p:xfrm>
        <a:graphic>
          <a:graphicData uri="http://schemas.openxmlformats.org/drawingml/2006/table">
            <a:tbl>
              <a:tblPr/>
              <a:tblGrid>
                <a:gridCol w="2819160"/>
                <a:gridCol w="762120"/>
                <a:gridCol w="990720"/>
                <a:gridCol w="838080"/>
                <a:gridCol w="762120"/>
                <a:gridCol w="761760"/>
                <a:gridCol w="757440"/>
                <a:gridCol w="919080"/>
              </a:tblGrid>
              <a:tr h="63936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уальн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роме того, псих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Text Box 1697"/>
          <p:cNvSpPr/>
          <p:nvPr/>
        </p:nvSpPr>
        <p:spPr>
          <a:xfrm>
            <a:off x="73681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10"/>
          <p:cNvSpPr/>
          <p:nvPr/>
        </p:nvSpPr>
        <p:spPr>
          <a:xfrm>
            <a:off x="4211640" y="2590920"/>
            <a:ext cx="4343400" cy="45972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Добавлены стр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10"/>
          <p:cNvSpPr/>
          <p:nvPr/>
        </p:nvSpPr>
        <p:spPr>
          <a:xfrm>
            <a:off x="4211640" y="3267000"/>
            <a:ext cx="4343400" cy="11912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ядок остается прежним: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Указываются посещения по вспомогательных подразделений только в случае «ведения» паци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915"/>
          <p:cNvSpPr/>
          <p:nvPr/>
        </p:nvSpPr>
        <p:spPr>
          <a:xfrm>
            <a:off x="3895560" y="4876920"/>
            <a:ext cx="5029200" cy="16462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Gothic"/>
                <a:ea typeface="Arial"/>
              </a:rPr>
              <a:t>По стр.125 графы «По поводу заболевания» не заполняю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Основные функции: Разработка развивающих и психокоррекционных программ по восстановлению здоровья больных и  проведение психодиагностических исследован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304920" y="1066680"/>
          <a:ext cx="8610480" cy="5456520"/>
        </p:xfrm>
        <a:graphic>
          <a:graphicData uri="http://schemas.openxmlformats.org/drawingml/2006/table">
            <a:tbl>
              <a:tblPr/>
              <a:tblGrid>
                <a:gridCol w="2819160"/>
                <a:gridCol w="762120"/>
                <a:gridCol w="990720"/>
                <a:gridCol w="838080"/>
                <a:gridCol w="762120"/>
                <a:gridCol w="761760"/>
                <a:gridCol w="757440"/>
                <a:gridCol w="919080"/>
              </a:tblGrid>
              <a:tr h="63936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уальн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роме того, псих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Text Box 1697"/>
          <p:cNvSpPr/>
          <p:nvPr/>
        </p:nvSpPr>
        <p:spPr>
          <a:xfrm>
            <a:off x="73681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Rectangle 915"/>
          <p:cNvSpPr/>
          <p:nvPr/>
        </p:nvSpPr>
        <p:spPr>
          <a:xfrm>
            <a:off x="1676520" y="2209680"/>
            <a:ext cx="6933960" cy="42674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стр.125 «Психологи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заполняется на основани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журнала ежедневного учета психологических консультац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торый включает в себя следующие пункт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первичных пациен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повторных пациен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консультаций по видам психологической помощ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отдельно выделяются графы по учету консультаций, проводимых в стационаре или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в амбулаторно-поликлиническом учреждени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урнал ведется ежеднев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4" name=""/>
          <p:cNvGraphicFramePr/>
          <p:nvPr/>
        </p:nvGraphicFramePr>
        <p:xfrm>
          <a:off x="76320" y="1066680"/>
          <a:ext cx="8839080" cy="4600800"/>
        </p:xfrm>
        <a:graphic>
          <a:graphicData uri="http://schemas.openxmlformats.org/drawingml/2006/table">
            <a:tbl>
              <a:tblPr/>
              <a:tblGrid>
                <a:gridCol w="1295280"/>
                <a:gridCol w="457200"/>
                <a:gridCol w="685800"/>
                <a:gridCol w="762120"/>
                <a:gridCol w="990360"/>
                <a:gridCol w="533520"/>
                <a:gridCol w="533520"/>
                <a:gridCol w="45720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4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частковые 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420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3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диатры городские, райо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5" name="Text Box 1697"/>
          <p:cNvSpPr/>
          <p:nvPr/>
        </p:nvSpPr>
        <p:spPr>
          <a:xfrm>
            <a:off x="736344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90"/>
          <p:cNvSpPr/>
          <p:nvPr/>
        </p:nvSpPr>
        <p:spPr>
          <a:xfrm>
            <a:off x="5334120" y="3200400"/>
            <a:ext cx="1752480" cy="131076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 45 – 46 – 47 по гр.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больше гр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91"/>
          <p:cNvSpPr/>
          <p:nvPr/>
        </p:nvSpPr>
        <p:spPr>
          <a:xfrm>
            <a:off x="7162920" y="3200400"/>
            <a:ext cx="1676160" cy="131076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 45 – 46 – 4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гр.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больше гр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92"/>
          <p:cNvSpPr/>
          <p:nvPr/>
        </p:nvSpPr>
        <p:spPr>
          <a:xfrm>
            <a:off x="5334120" y="4572000"/>
            <a:ext cx="3581280" cy="5806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стр. 45 – 46 – 47 по гр. 4 должна быть больше гр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93"/>
          <p:cNvSpPr/>
          <p:nvPr/>
        </p:nvSpPr>
        <p:spPr>
          <a:xfrm>
            <a:off x="5334120" y="5257800"/>
            <a:ext cx="3504960" cy="33732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т.д.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94"/>
          <p:cNvSpPr/>
          <p:nvPr/>
        </p:nvSpPr>
        <p:spPr>
          <a:xfrm>
            <a:off x="152280" y="5715000"/>
            <a:ext cx="8763120" cy="58068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рить аналогичные контроли по всем специальностям врачей, имеющих «входящие» строки. То есть, стр. 5 – акушеры гинекологи, стр. 67 – психиатры, стр. 69 – психиатры детские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96"/>
          <p:cNvSpPr/>
          <p:nvPr/>
        </p:nvSpPr>
        <p:spPr>
          <a:xfrm>
            <a:off x="3276720" y="3657600"/>
            <a:ext cx="198108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Наприм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по гр. 3: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5000-4200-400=400 </a:t>
            </a: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по гр. 4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4800-3900-370=530   т.е. гр. 3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&lt;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гр. 4       ОШИБКА!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94"/>
          <p:cNvSpPr/>
          <p:nvPr/>
        </p:nvSpPr>
        <p:spPr>
          <a:xfrm>
            <a:off x="152280" y="5667480"/>
            <a:ext cx="8763120" cy="5806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рить аналогичные контроли по всем специальностям врачей, имеющих «входящие» строки. То есть, стр. 5 – акушеры гинекологи, стр. 67 – психиатры, стр. 69 – психиатры детские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1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84" name=""/>
          <p:cNvGraphicFramePr/>
          <p:nvPr/>
        </p:nvGraphicFramePr>
        <p:xfrm>
          <a:off x="152280" y="914400"/>
          <a:ext cx="8763120" cy="4038480"/>
        </p:xfrm>
        <a:graphic>
          <a:graphicData uri="http://schemas.openxmlformats.org/drawingml/2006/table">
            <a:tbl>
              <a:tblPr/>
              <a:tblGrid>
                <a:gridCol w="5257800"/>
                <a:gridCol w="762120"/>
                <a:gridCol w="2743200"/>
              </a:tblGrid>
              <a:tr h="554040"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кабинетах) неотложной медицинской помощи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628"/>
          <p:cNvSpPr/>
          <p:nvPr/>
        </p:nvSpPr>
        <p:spPr>
          <a:xfrm>
            <a:off x="6172200" y="3309840"/>
            <a:ext cx="2743200" cy="103356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нутриформенный контрол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4 = сумме строк 4.2+4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628"/>
          <p:cNvSpPr/>
          <p:nvPr/>
        </p:nvSpPr>
        <p:spPr>
          <a:xfrm>
            <a:off x="6172200" y="1219320"/>
            <a:ext cx="2724120" cy="20541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пунктов (кабинетов) неотложной медицинской помощи, включая пункты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2"/>
          <p:cNvSpPr/>
          <p:nvPr/>
        </p:nvSpPr>
        <p:spPr>
          <a:xfrm>
            <a:off x="152280" y="4724280"/>
            <a:ext cx="8744040" cy="1935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е 1 таблицы 2101 указываются посещения среднего медицинского персонала на самостоятельном приеме во врачебных амбулаторно-поликлинических учреждениях, на врачебных и фельдшерских здравпунктах, ФАПах и фельдшерских пунктах, включая передвиж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38840" algn="just">
              <a:lnSpc>
                <a:spcPct val="100000"/>
              </a:lnSpc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ещения к зубным врачам и гигиенистам стоматологическими в таблиц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не включаютс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чет деятельности ведется в таблице 27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5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0" name=""/>
          <p:cNvGraphicFramePr/>
          <p:nvPr/>
        </p:nvGraphicFramePr>
        <p:xfrm>
          <a:off x="152280" y="838080"/>
          <a:ext cx="8763120" cy="56818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703"/>
          <p:cNvSpPr/>
          <p:nvPr/>
        </p:nvSpPr>
        <p:spPr>
          <a:xfrm>
            <a:off x="4495680" y="2666880"/>
            <a:ext cx="4419720" cy="22860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. Также наличие передвижных подразделений и количество выездов  должно быть отображено в таблице 10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626"/>
          <p:cNvSpPr/>
          <p:nvPr/>
        </p:nvSpPr>
        <p:spPr>
          <a:xfrm>
            <a:off x="7139520" y="403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classuser</cp:lastModifiedBy>
  <cp:lastPrinted>2018-11-07T07:41:24Z</cp:lastPrinted>
  <dcterms:modified xsi:type="dcterms:W3CDTF">2019-12-08T11:35:56Z</dcterms:modified>
  <cp:revision>6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